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E034-076D-44E7-8DB0-2A8862025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C567-2632-49E3-9374-35C750B8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330A-388C-4741-83AE-2B52CCA76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E213-BBA8-4FD0-BD8C-364AE8929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BE51-9AFA-4604-9C1A-EFFECBC5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3CD3-8054-45D3-BD23-61A8312F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DCFD-CDB3-4203-A208-A9F079D6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D1C6-5144-4190-BEEC-550F31C7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6A28-9725-4EE5-82E2-F042EFB3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70F2-BB43-4074-8FA8-EAAA2611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70B4-A3E6-41AB-85A9-267BF1CC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E715-FC02-4CCF-B871-4EF2EA8B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FBE7-362C-4BBE-A87C-1E88095E7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pport de compr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aison des différentes méthodes de compression sur plusieurs fich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0" y="609480"/>
          <a:ext cx="9144000" cy="552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914400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2819520" y="1676520"/>
          <a:ext cx="2514600" cy="558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1676520"/>
                    <a:ext cx="251460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5257800" y="167652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0" y="685800"/>
          <a:ext cx="9144000" cy="552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85800"/>
                    <a:ext cx="914400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501480"/>
          <a:ext cx="9144000" cy="585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01480"/>
                    <a:ext cx="9144000" cy="585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749520" y="6172200"/>
            <a:ext cx="51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eu : taille initiale. Rouge : taille fin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16002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3 760 oct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09480" y="103320"/>
          <a:ext cx="8077320" cy="675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3320"/>
                    <a:ext cx="8077320" cy="67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762120"/>
          <a:ext cx="9144000" cy="522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2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4419720" y="13716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89 878 oct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46880" y="5985000"/>
            <a:ext cx="65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leurs 24 bits , 512*384 pixels , résolution 96p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762120"/>
          <a:ext cx="9144000" cy="522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2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80880" y="0"/>
          <a:ext cx="8153640" cy="681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0"/>
                    <a:ext cx="8153640" cy="68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987120" y="6248520"/>
            <a:ext cx="60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6 couleurs, 512*384 pixels , résolution 96p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19051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7 686 oct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62120" y="0"/>
          <a:ext cx="7772400" cy="687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0"/>
                    <a:ext cx="7772400" cy="68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33520" y="0"/>
          <a:ext cx="8153280" cy="681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0"/>
                    <a:ext cx="8153280" cy="68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3733920" y="18288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4 454 oct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3040" y="6172200"/>
            <a:ext cx="31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2kbps, 16bits, 22K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762120" y="0"/>
          <a:ext cx="7696080" cy="681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0"/>
                    <a:ext cx="7696080" cy="68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6T16:17:19Z</dcterms:created>
  <dc:creator>Monchamps</dc:creator>
  <dc:description/>
  <dc:language>en-US</dc:language>
  <cp:lastModifiedBy>Monchamps</cp:lastModifiedBy>
  <dcterms:modified xsi:type="dcterms:W3CDTF">2004-05-16T20:01:31Z</dcterms:modified>
  <cp:revision>21</cp:revision>
  <dc:subject/>
  <dc:title>Rapport de compression</dc:title>
</cp:coreProperties>
</file>