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A54B-B20C-4CAB-BD07-12CE72C39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040D-67A4-4615-9A84-D5F325E0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513B-F777-454D-9C3A-5D23EE957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B5CB-CB97-4B3F-93B4-A3A5546ED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A44D-2396-4C07-ACF3-3CEF6263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74A0-FC00-4D3E-8862-D559583E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D86C-85C4-4879-82E7-7D75AEC2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860D-0222-4F1B-9378-99DCB526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AE60-BF42-4D23-92BB-2D2745B7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70C3-20E3-473B-A9C0-13DB08F9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7D7F-D3D0-4556-BC43-B58350D0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0B17-CAA2-4031-BBB4-2DA46299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0A74-25BB-422F-BCEC-9EAB82D62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pport de compr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aison des différentes méthodes de compression sur plusieurs fich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0" y="609480"/>
          <a:ext cx="9144000" cy="552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914400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2819520" y="1676520"/>
          <a:ext cx="2514600" cy="558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1676520"/>
                    <a:ext cx="251460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5257800" y="167652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0" y="685800"/>
          <a:ext cx="9144000" cy="552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85800"/>
                    <a:ext cx="914400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501480"/>
          <a:ext cx="9144000" cy="585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01480"/>
                    <a:ext cx="9144000" cy="585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749520" y="6172200"/>
            <a:ext cx="51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eu : taille initiale. Rouge : taille fin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16002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3 760 oct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09480" y="103320"/>
          <a:ext cx="8077320" cy="675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3320"/>
                    <a:ext cx="8077320" cy="67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762120"/>
          <a:ext cx="9144000" cy="522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2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4419720" y="13716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89 878 oct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46880" y="5985000"/>
            <a:ext cx="65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leurs 24 bits , 512*384 pixels , résolution 96p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762120"/>
          <a:ext cx="9144000" cy="522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2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80880" y="0"/>
          <a:ext cx="8153640" cy="681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0"/>
                    <a:ext cx="8153640" cy="68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987120" y="6248520"/>
            <a:ext cx="60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6 couleurs, 512*384 pixels , résolution 96p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19051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7 686 oct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62120" y="0"/>
          <a:ext cx="7772400" cy="687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0"/>
                    <a:ext cx="7772400" cy="68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33520" y="0"/>
          <a:ext cx="8153280" cy="681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0"/>
                    <a:ext cx="8153280" cy="68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3733920" y="18288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4 454 oct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3040" y="6172200"/>
            <a:ext cx="31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2kbps, 16bits, 22K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762120" y="0"/>
          <a:ext cx="7696080" cy="681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0"/>
                    <a:ext cx="7696080" cy="68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6T16:17:19Z</dcterms:created>
  <dc:creator>Monchamps</dc:creator>
  <dc:description/>
  <dc:language>en-US</dc:language>
  <cp:lastModifiedBy>Monchamps</cp:lastModifiedBy>
  <dcterms:modified xsi:type="dcterms:W3CDTF">2004-05-16T20:01:31Z</dcterms:modified>
  <cp:revision>21</cp:revision>
  <dc:subject/>
  <dc:title>Rapport de compression</dc:title>
</cp:coreProperties>
</file>