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AFA53-0BA8-4A7F-B71F-D18047D02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A97FF-7D65-4C3B-8EF9-DFC61D8D6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A7C57-2CDC-46C2-9D9A-EC3827F7C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DC73A-83ED-4D08-99F8-EF00DDA48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E5CE6-9A83-4A81-96BB-746FFA019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42C0A-3246-4684-8FFE-336C86522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B6815-D9C6-439F-9795-D0224B527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7D68A-D62A-4765-9291-55E8E8B58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01E07-4644-4CA3-A1FE-3EC0635D7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78FDE-4174-4DB4-BE6A-FD3138951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739F0-05C2-4278-B113-718C15B7A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9B455-D6B7-4F7A-8B2C-B58F358B7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DD834-FA98-4E8F-ABEC-DBFA67B4B4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ression LZ77 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xe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Compression LZ77 : exe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621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Nous allons maintenant étudier la compression LZ77 au travers d’un exemple en compressant la phrase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how-much-wood-would-a-wookchu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On parcourt le fichier tout en le compressa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685800"/>
          </a:xfrm>
          <a:prstGeom prst="rect">
            <a:avLst/>
          </a:prstGeom>
          <a:solidFill>
            <a:srgbClr val="66ff33">
              <a:alpha val="50000"/>
            </a:srgbClr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cc00"/>
                </a:solidFill>
                <a:latin typeface="Times New Roman"/>
              </a:rPr>
              <a:t>how-much-wood-w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648320" y="1981080"/>
            <a:ext cx="1143000" cy="581400"/>
          </a:xfrm>
          <a:prstGeom prst="rect">
            <a:avLst/>
          </a:prstGeom>
          <a:solidFill>
            <a:srgbClr val="ff3300">
              <a:alpha val="5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3300"/>
                </a:solidFill>
                <a:latin typeface="Times New Roman"/>
              </a:rPr>
              <a:t>uld-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83640" y="2895480"/>
            <a:ext cx="303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enêtre (dictionnai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495680" y="28954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buff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3809880"/>
            <a:ext cx="3809880" cy="581400"/>
          </a:xfrm>
          <a:prstGeom prst="rect">
            <a:avLst/>
          </a:prstGeom>
          <a:solidFill>
            <a:srgbClr val="66ff33">
              <a:alpha val="5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cc00"/>
                </a:solidFill>
                <a:latin typeface="Times New Roman"/>
              </a:rPr>
              <a:t>ow-much-wood-w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648320" y="3809880"/>
            <a:ext cx="1143000" cy="520560"/>
          </a:xfrm>
          <a:prstGeom prst="rect">
            <a:avLst/>
          </a:prstGeom>
          <a:solidFill>
            <a:srgbClr val="ff3300">
              <a:alpha val="5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3300"/>
                </a:solidFill>
                <a:latin typeface="Times New Roman"/>
              </a:rPr>
              <a:t>ld-a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419720" y="5029200"/>
            <a:ext cx="1371600" cy="581400"/>
          </a:xfrm>
          <a:prstGeom prst="rect">
            <a:avLst/>
          </a:prstGeom>
          <a:solidFill>
            <a:srgbClr val="ff3300">
              <a:alpha val="5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3300"/>
                </a:solidFill>
                <a:latin typeface="Times New Roman"/>
              </a:rPr>
              <a:t>-wo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5029200"/>
            <a:ext cx="3581280" cy="581400"/>
          </a:xfrm>
          <a:prstGeom prst="rect">
            <a:avLst/>
          </a:prstGeom>
          <a:solidFill>
            <a:srgbClr val="66ff33">
              <a:alpha val="5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cc00"/>
                </a:solidFill>
                <a:latin typeface="Times New Roman"/>
              </a:rPr>
              <a:t>uch-wood-would-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14479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e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038480" y="175248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685800" y="17524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095880" y="1905120"/>
            <a:ext cx="2590920" cy="13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rnier caractère codé : u=0,0,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triple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172200" y="3657600"/>
            <a:ext cx="259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rnier caractère codé : l=0,0,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362320" y="44197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38280" y="4495680"/>
            <a:ext cx="134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5 étap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371600" y="5029200"/>
            <a:ext cx="1066680" cy="685800"/>
          </a:xfrm>
          <a:prstGeom prst="rect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495680" y="5029200"/>
            <a:ext cx="1143000" cy="685800"/>
          </a:xfrm>
          <a:prstGeom prst="rect">
            <a:avLst/>
          </a:prstGeom>
          <a:solidFill>
            <a:srgbClr val="ff505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5715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029200" y="5715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05120" y="609588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172200" y="510552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-wood=12,5,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2280" y="3505320"/>
            <a:ext cx="8686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52280" y="4724280"/>
            <a:ext cx="2133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809880" y="4724280"/>
            <a:ext cx="5029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1600200"/>
            <a:ext cx="0" cy="4724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Compressi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Comment le programme compresse-t-il le fichier 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Quand le programme parcourt le fichier, compare les occurrences du buffer avec celles du dictionnaire. Si il trouve des occurrences semblables de plus de 3 caractères, le  dictionnaire est avancé du nombre de caractères à compresser +1 et l ’occurrence est codée sous la forme d ’un triplet (pos,size,caractère non codé suivan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Et voici la dernière étape : la boucle est bouclée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440" y="480024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rnier caractère codé : h=0,0,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85800" y="2286000"/>
            <a:ext cx="4191120" cy="685800"/>
          </a:xfrm>
          <a:prstGeom prst="rect">
            <a:avLst/>
          </a:prstGeom>
          <a:solidFill>
            <a:srgbClr val="66ff33">
              <a:alpha val="5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cc00"/>
                </a:solidFill>
                <a:latin typeface="Times New Roman"/>
              </a:rPr>
              <a:t>od-would-a-woodchu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105520" y="2286000"/>
            <a:ext cx="1523880" cy="581400"/>
          </a:xfrm>
          <a:prstGeom prst="rect">
            <a:avLst/>
          </a:prstGeom>
          <a:solidFill>
            <a:srgbClr val="ff3300">
              <a:alpha val="5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3300"/>
                </a:solidFill>
                <a:latin typeface="Times New Roman"/>
              </a:rPr>
              <a:t>huck 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45320" y="3124080"/>
            <a:ext cx="7783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Ø correspond à un vide : en effet il n ’y a plu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que 4 caractères dans la phrase et le buffer 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compte 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9T09:01:59Z</dcterms:created>
  <dc:creator>eleve</dc:creator>
  <dc:description/>
  <dc:language>en-US</dc:language>
  <cp:lastModifiedBy>eleve</cp:lastModifiedBy>
  <dcterms:modified xsi:type="dcterms:W3CDTF">2004-05-13T20:02:10Z</dcterms:modified>
  <cp:revision>31</cp:revision>
  <dc:subject/>
  <dc:title>Compression LZH :</dc:title>
</cp:coreProperties>
</file>