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0DF3-76C6-4148-869B-92175F7A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450A-0206-4D91-B3EB-6981787C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17D-9000-4680-B1D8-CD0FF8A4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2A20-69AC-407B-BFB4-BF9E76B7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C94C-ADFD-423F-85FD-DC19D5B8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DD70-68AC-4BF6-AD94-921FEB7D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CDB5-CF32-484E-9555-D7DE54EC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13CD-7910-4699-9A8E-32D8E515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214-EF93-474D-9620-6BF126C2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6470-AABF-4983-BE8A-C50E8A93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CFEE-7D1F-4202-BBEE-EB4AADA0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572A-E761-446D-A8FF-740CCC11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182E-2201-435F-B855-ED23FBBAD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a compression LZ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compression LZSS se fait de la même manière que LZ77 excepté le fait qu’on puisse tomber face à deux cas de figure pour le mot codé 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a un triplet (marqueur, position, longueur) quand on compresse la donné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a juste un couple (marqueur, caractère non compressé) quand on ne compresse p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marqueur est à 1 lorsque la donnée qui suit est la paire (position, longueur), et 0 si on a simplement le caractère non compressé à la su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nons l’exemple précéd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how-much-wood-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1981080"/>
            <a:ext cx="11430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809880"/>
            <a:ext cx="38098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w-much-wood-w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3809880"/>
            <a:ext cx="1143000" cy="52056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ld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5029200"/>
            <a:ext cx="35812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uch-wood-wo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5029200"/>
            <a:ext cx="13716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-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5029200"/>
            <a:ext cx="1143000" cy="68580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029200"/>
            <a:ext cx="106668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6095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0292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1676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0,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3429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0,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47242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1,3,5) 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5:30:46Z</dcterms:created>
  <dc:creator>Monchamps</dc:creator>
  <dc:description/>
  <dc:language>en-US</dc:language>
  <cp:lastModifiedBy>Monchamps</cp:lastModifiedBy>
  <dcterms:modified xsi:type="dcterms:W3CDTF">2004-05-16T15:40:52Z</dcterms:modified>
  <cp:revision>7</cp:revision>
  <dc:subject/>
  <dc:title>La compression LZSS</dc:title>
</cp:coreProperties>
</file>