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Narrow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3684D-5668-4724-AC81-8FC0BA152C83}" type="slidenum">
              <a:rPr b="0" lang="fr-FR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lusion avant arb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5F7FC-6E53-4831-9C1B-2822D0F7D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0BF23-E913-4695-917B-24011DEA0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BFE4C-6861-4130-9B3E-C516D3AE0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28074-65F9-4B6F-ACE9-552CE7349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EC8C8-D74F-47C5-BEE3-644E5425C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A8B86-66F3-4601-B4A3-906A0DF54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A8408-CC2A-46BB-AFDB-B1CC9877F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6F741-4169-4BB5-B8D4-99A1915CB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2375C-2292-462B-9A1F-CCDA39988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85F84-50BE-403D-9E2E-3108D3D7A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D0A7B-9D1F-4611-B66F-61DC0E227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2ACCA-2E72-4FAE-B35E-8945CAAEC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E09ED-5CA0-459B-B972-51F54C9E5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89438-353E-470A-81B4-F2F863AB5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B624B-8A50-486E-BAC9-B69A840AE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AC672-D294-4ADF-85CE-DDC2D3742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57563-2962-4B85-91D3-081506FB1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13391-F50D-4BED-8B16-8D5A7DA43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A438D-A632-466A-B0FE-05C0EA36D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823CD-07C9-4ECF-B9B8-C998E4DEA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77D1C-F342-4C99-96B9-B28680D49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7BEDA-917D-4CAA-9519-D530F62E0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8E51A-5873-48D4-9778-BEB40E7C5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DDAC7-656C-4454-A6F0-B4E85D8EE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725A9-B22F-4FE8-980D-8BFD1F6A515B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4FE73-D98F-4A2C-9E90-ABFD3C55E3F7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Arbre de Huffma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676520" y="3733920"/>
            <a:ext cx="64008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d18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bd189"/>
                </a:solidFill>
                <a:latin typeface="Times New Roman"/>
              </a:rPr>
              <a:t>à quoi sert-il ,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676520" y="190512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Nous allons maintenant expliquer :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676520" y="2819520"/>
            <a:ext cx="693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d18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bd189"/>
                </a:solidFill>
                <a:latin typeface="Times New Roman"/>
              </a:rPr>
              <a:t>qu’est-ce qu’un arbre de huffman ,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676520" y="457200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d18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bd189"/>
                </a:solidFill>
                <a:latin typeface="Times New Roman"/>
              </a:rPr>
              <a:t>comment le créé-t-on 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447920" y="2895480"/>
            <a:ext cx="7162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Pour simplifier les choses nous n’utiliserons pas les accents , les majuscules et les points 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066680" y="3886200"/>
            <a:ext cx="762012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Dans un premier temps , nous trouverons la fréquence d’apparition de chaque lettre dans la phrase ,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puis nous créerons l’arbre de huffman étape par étape en détaillant celles-ci ,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enfin , nous calculerons la taille du fichier compressé en la détaillant : tant d’octets pour la table , tant pour l’arbre , etc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ebd189"/>
                </a:solidFill>
                <a:latin typeface="Arial Narrow"/>
              </a:rPr>
              <a:t>Nous allons créer un arbre du huffman spécifique à la phrase suivante :</a:t>
            </a:r>
            <a:br>
              <a:rPr sz="2800"/>
            </a:br>
            <a:r>
              <a:rPr b="0" lang="fr-FR" sz="2800" spc="-1" strike="noStrike">
                <a:solidFill>
                  <a:srgbClr val="ebd189"/>
                </a:solidFill>
                <a:latin typeface="Arial Narrow"/>
              </a:rPr>
              <a:t> «  le president est entre dans la salle  »</a:t>
            </a:r>
            <a:br>
              <a:rPr sz="2800"/>
            </a:br>
            <a:endParaRPr b="0" lang="en-US" sz="2800" spc="-1" strike="noStrike">
              <a:solidFill>
                <a:srgbClr val="ebd18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066680" y="152280"/>
            <a:ext cx="7848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76920" y="3733920"/>
            <a:ext cx="685800" cy="6858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295280" y="5410080"/>
            <a:ext cx="685800" cy="6858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876920" y="2895480"/>
            <a:ext cx="685800" cy="6858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295280" y="2057400"/>
            <a:ext cx="685800" cy="6858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295280" y="2895480"/>
            <a:ext cx="685800" cy="6858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295280" y="1219320"/>
            <a:ext cx="685800" cy="6858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295280" y="3733920"/>
            <a:ext cx="685800" cy="6858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876920" y="1143000"/>
            <a:ext cx="685800" cy="6858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295280" y="4572000"/>
            <a:ext cx="685800" cy="6858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876920" y="2057400"/>
            <a:ext cx="685800" cy="6858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876920" y="4572000"/>
            <a:ext cx="685800" cy="6858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1295280"/>
            <a:ext cx="76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295280" y="121932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219320" y="198108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_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76920" y="11430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a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876920" y="20574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876920" y="289548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d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76920" y="373392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p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876920" y="45720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i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295280" y="541008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295280" y="45720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295280" y="373392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95280" y="29718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057400" y="137160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Apparaît 7 foi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057400" y="22096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Apparaît 6 foi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057400" y="297180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Apparaît 4 foi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057400" y="3809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Apparaît 4 foi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057400" y="464832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Apparaît 3 foi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057400" y="556272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Apparaît 3 foi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638680" y="121932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Apparaît 3 foi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638680" y="213372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Apparaît 2 foi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638680" y="304812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Apparaît 2 foi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638680" y="388620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Apparaît 1 foi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638680" y="472428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Apparaît 1 foi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228600"/>
            <a:ext cx="73915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ebd189"/>
                </a:solidFill>
                <a:latin typeface="Arial Narrow"/>
              </a:rPr>
              <a:t>On peut déjà déterminer le nombre de fois où chaque lettre apparaît dans la phrase :</a:t>
            </a:r>
            <a:br>
              <a:rPr sz="2400"/>
            </a:br>
            <a:r>
              <a:rPr b="0" lang="fr-FR" sz="2400" spc="-1" strike="noStrike">
                <a:solidFill>
                  <a:srgbClr val="ebd189"/>
                </a:solidFill>
                <a:latin typeface="Arial Narrow"/>
              </a:rPr>
              <a:t>le president est entre dans la salle</a:t>
            </a:r>
            <a:br>
              <a:rPr sz="2400"/>
            </a:br>
            <a:endParaRPr b="0" lang="en-US" sz="2400" spc="-1" strike="noStrike">
              <a:solidFill>
                <a:srgbClr val="ebd18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143000" y="228600"/>
            <a:ext cx="7543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990720" y="15228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On connaît maintenant la fréquence d’apparition de chacune des lettres de cette phrase 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1219320"/>
            <a:ext cx="7162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On sait également que le nombre total de caractères de cette phrase est de 36 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447920" y="2438280"/>
            <a:ext cx="7238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L’arbre que nous allons maintenant réaliser est un arbre binaire, c’est à dire que les lettres vont avoir un nombre binaire qui leur correspondra 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600200" y="4267080"/>
            <a:ext cx="731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Par convention , lors d’une ramification de l’arbre , là où il se sépare en deux , le chemin de gauche est noté avec un 0 et celui de droite avec un 1 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66680" y="56386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ebd189"/>
                </a:solidFill>
                <a:latin typeface="Arial"/>
              </a:rPr>
              <a:t>Nous allons maintenant créer l’arbre</a:t>
            </a:r>
            <a:endParaRPr b="0" lang="en-US" sz="3200" spc="-1" strike="noStrike">
              <a:solidFill>
                <a:srgbClr val="ebd18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Voici l’arbre créé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848720" y="3276720"/>
            <a:ext cx="761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362320" y="5105520"/>
            <a:ext cx="685800" cy="6858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320" y="5105520"/>
            <a:ext cx="685800" cy="6858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648320" y="4038480"/>
            <a:ext cx="685800" cy="6858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3200400"/>
            <a:ext cx="685800" cy="6858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562720" y="4038480"/>
            <a:ext cx="685800" cy="6858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905120" y="6172200"/>
            <a:ext cx="685800" cy="6858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153280" y="3276720"/>
            <a:ext cx="76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077320" y="32004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502920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_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362320" y="510552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905120" y="61722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562720" y="403848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648320" y="41148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8458200" y="6172200"/>
            <a:ext cx="685800" cy="6858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352680" y="5105520"/>
            <a:ext cx="685800" cy="6858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914400" y="6172200"/>
            <a:ext cx="685800" cy="6858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324480" y="5029200"/>
            <a:ext cx="685800" cy="6858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238880" y="6172200"/>
            <a:ext cx="685800" cy="6858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914400" y="61722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a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324480" y="50292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52680" y="510552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d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458200" y="61722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p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238880" y="61722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i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1371600" y="5638680"/>
            <a:ext cx="304920" cy="4572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609480" y="4572000"/>
            <a:ext cx="304920" cy="4572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7620120" y="5638680"/>
            <a:ext cx="304560" cy="4572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6858000" y="4495680"/>
            <a:ext cx="304920" cy="4572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2819520" y="4495680"/>
            <a:ext cx="304560" cy="4572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6095880" y="3505320"/>
            <a:ext cx="304920" cy="4572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905120" y="5638680"/>
            <a:ext cx="304560" cy="4572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19720" y="3581280"/>
            <a:ext cx="304560" cy="4572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924680" y="2743200"/>
            <a:ext cx="304920" cy="4572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381880" y="5638680"/>
            <a:ext cx="304920" cy="4572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352680" y="4495680"/>
            <a:ext cx="304920" cy="4572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371600" y="4876920"/>
            <a:ext cx="685800" cy="6858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838080" y="3733920"/>
            <a:ext cx="685800" cy="6858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666880" y="2133720"/>
            <a:ext cx="685800" cy="6858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343400" y="1143000"/>
            <a:ext cx="685800" cy="6858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315200" y="2057400"/>
            <a:ext cx="685800" cy="6858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934320" y="3733920"/>
            <a:ext cx="685800" cy="6858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848720" y="4876920"/>
            <a:ext cx="685800" cy="6858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895480" y="3733920"/>
            <a:ext cx="685800" cy="6858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809880" y="2819520"/>
            <a:ext cx="685800" cy="6858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324480" y="2819520"/>
            <a:ext cx="685800" cy="6858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1447920" y="2743200"/>
            <a:ext cx="1218960" cy="9907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3352680" y="1676160"/>
            <a:ext cx="914400" cy="53316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105520" y="1523880"/>
            <a:ext cx="2209680" cy="60984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371600" y="4419720"/>
            <a:ext cx="228600" cy="38088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3505320" y="3429000"/>
            <a:ext cx="380880" cy="38088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352680" y="2666880"/>
            <a:ext cx="457200" cy="2286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7010280" y="2666880"/>
            <a:ext cx="228600" cy="15264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858000" y="3505320"/>
            <a:ext cx="152280" cy="2286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543800" y="4343400"/>
            <a:ext cx="380880" cy="5335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352680" y="1523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0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867280" y="3429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0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352680" y="3276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0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590920" y="4419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0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066680" y="56386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0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28600" y="43434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0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523880" y="2666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0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858000" y="23623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0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391520" y="5562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0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629400" y="4419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0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867280" y="13716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1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429000" y="44197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1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981080" y="55627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1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371600" y="43434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1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495680" y="35053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1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429000" y="23623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1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8381880" y="55627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1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620120" y="43434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1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781680" y="32767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1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924680" y="26668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1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267080" y="12193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a"/>
                </a:solidFill>
                <a:latin typeface="Arial Narrow"/>
              </a:rPr>
              <a:t>36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62120" y="38098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a"/>
                </a:solidFill>
                <a:latin typeface="Arial Narrow"/>
              </a:rPr>
              <a:t>12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22096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a"/>
                </a:solidFill>
                <a:latin typeface="Arial Narrow"/>
              </a:rPr>
              <a:t>21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733920" y="28954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a"/>
                </a:solidFill>
                <a:latin typeface="Arial Narrow"/>
              </a:rPr>
              <a:t>9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772400" y="49528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a"/>
                </a:solidFill>
                <a:latin typeface="Arial Narrow"/>
              </a:rPr>
              <a:t>2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858000" y="38098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a"/>
                </a:solidFill>
                <a:latin typeface="Arial Narrow"/>
              </a:rPr>
              <a:t>4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248520" y="28954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a"/>
                </a:solidFill>
                <a:latin typeface="Arial Narrow"/>
              </a:rPr>
              <a:t>8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8880" y="2133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a"/>
                </a:solidFill>
                <a:latin typeface="Arial Narrow"/>
              </a:rPr>
              <a:t>15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295280" y="49528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a"/>
                </a:solidFill>
                <a:latin typeface="Arial Narrow"/>
              </a:rPr>
              <a:t>6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819520" y="38098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a"/>
                </a:solidFill>
                <a:latin typeface="Arial Narrow"/>
              </a:rPr>
              <a:t>5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80880" y="685800"/>
            <a:ext cx="1981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838080" y="609480"/>
            <a:ext cx="1905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Les lettres ont chacune un nombre binaire qui leur correspond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124080" y="5670720"/>
            <a:ext cx="3830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Plus la fréquence d’apparition d’une lettre est élevée, plus son nombre binaire sera petit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able du fichier compressé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eaeaea"/>
                </a:solidFill>
                <a:latin typeface="Arial"/>
              </a:rPr>
              <a:t>La phrase est maintenant compressée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eaeaea"/>
                </a:solidFill>
                <a:latin typeface="Arial"/>
              </a:rPr>
              <a:t>Voici la table binaire 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eaeaea"/>
                </a:solidFill>
                <a:latin typeface="Arial"/>
              </a:rPr>
              <a:t>           </a:t>
            </a:r>
            <a:r>
              <a:rPr b="0" lang="fr-FR" sz="3200" spc="-1" strike="noStrike">
                <a:solidFill>
                  <a:srgbClr val="eaeaea"/>
                </a:solidFill>
                <a:latin typeface="Arial"/>
              </a:rPr>
              <a:t>e: 11</a:t>
            </a:r>
            <a:r>
              <a:rPr b="0" lang="fr-FR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eaeaea"/>
                </a:solidFill>
                <a:latin typeface="Arial"/>
              </a:rPr>
              <a:t>  a : 0010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eaeaea"/>
                </a:solidFill>
                <a:latin typeface="Arial"/>
              </a:rPr>
              <a:t>- : 000</a:t>
            </a:r>
            <a:r>
              <a:rPr b="0" lang="fr-FR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eaeaea"/>
                </a:solidFill>
                <a:latin typeface="Arial"/>
              </a:rPr>
              <a:t>r  : 1010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eaeaea"/>
                </a:solidFill>
                <a:latin typeface="Arial"/>
              </a:rPr>
              <a:t>           </a:t>
            </a:r>
            <a:r>
              <a:rPr b="0" lang="fr-FR" sz="3200" spc="-1" strike="noStrike">
                <a:solidFill>
                  <a:srgbClr val="eaeaea"/>
                </a:solidFill>
                <a:latin typeface="Arial"/>
              </a:rPr>
              <a:t>l : 011</a:t>
            </a:r>
            <a:r>
              <a:rPr b="0" lang="fr-FR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eaeaea"/>
                </a:solidFill>
                <a:latin typeface="Arial"/>
              </a:rPr>
              <a:t>   d : 0101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fr-FR" sz="3200" spc="-1" strike="noStrike">
                <a:solidFill>
                  <a:srgbClr val="eaeaea"/>
                </a:solidFill>
                <a:latin typeface="Arial"/>
              </a:rPr>
              <a:t>s: 100</a:t>
            </a:r>
            <a:r>
              <a:rPr b="0" lang="fr-FR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eaeaea"/>
                </a:solidFill>
                <a:latin typeface="Arial"/>
              </a:rPr>
              <a:t>  p : 10111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fr-FR" sz="3200" spc="-1" strike="noStrike">
                <a:solidFill>
                  <a:srgbClr val="eaeaea"/>
                </a:solidFill>
                <a:latin typeface="Arial"/>
              </a:rPr>
              <a:t>n: 0011</a:t>
            </a:r>
            <a:r>
              <a:rPr b="0" lang="fr-FR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eaeaea"/>
                </a:solidFill>
                <a:latin typeface="Arial"/>
              </a:rPr>
              <a:t>  i  : 10110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0" lang="fr-FR" sz="3200" spc="-1" strike="noStrike">
                <a:solidFill>
                  <a:srgbClr val="eaeaea"/>
                </a:solidFill>
                <a:latin typeface="Arial"/>
              </a:rPr>
              <a:t>t : 0100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eaeaea"/>
                </a:solidFill>
                <a:latin typeface="Arial"/>
              </a:rPr>
              <a:t>Mais qu’en est-il de la taille du fichier 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aille du fichier compressé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066680" y="10663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eaeaea"/>
                </a:solidFill>
                <a:latin typeface="Arial"/>
                <a:ea typeface="Times New Roman"/>
              </a:rPr>
              <a:t>La phrase compressée occupe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eaeaea"/>
                </a:solidFill>
                <a:latin typeface="Arial"/>
                <a:ea typeface="Times New Roman"/>
              </a:rPr>
              <a:t>(7*2 + 6*3 + 4*3 + 4*3 + 3*4 + 3*4 + 3*4 + 2*4 + 2*4 + 1*5 + 1*5) = 118 bits,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eaeaea"/>
                </a:solidFill>
                <a:latin typeface="Arial"/>
                <a:ea typeface="Times New Roman"/>
              </a:rPr>
              <a:t>au lieu de (36 * 8) = 288 bits,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eaeaea"/>
                </a:solidFill>
                <a:latin typeface="Arial"/>
                <a:ea typeface="Times New Roman"/>
              </a:rPr>
              <a:t>pour un gain de compression de ((288 – 118) / 288) = 59%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 u="sng">
                <a:solidFill>
                  <a:srgbClr val="eaeaea"/>
                </a:solidFill>
                <a:uFillTx/>
                <a:latin typeface="Arial"/>
                <a:ea typeface="Times New Roman"/>
              </a:rPr>
              <a:t>NB</a:t>
            </a:r>
            <a:r>
              <a:rPr b="0" lang="fr-FR" sz="3200" spc="-1" strike="noStrike">
                <a:solidFill>
                  <a:srgbClr val="eaeaea"/>
                </a:solidFill>
                <a:latin typeface="Arial"/>
                <a:ea typeface="Times New Roman"/>
              </a:rPr>
              <a:t> :Ce taux de compression diminue faiblement à cause de la table des codes de Huffman, indispensable pour la décompression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02T17:39:57Z</dcterms:created>
  <dc:creator>Monchamps</dc:creator>
  <dc:description/>
  <dc:language>en-US</dc:language>
  <cp:lastModifiedBy>Monchamps</cp:lastModifiedBy>
  <dcterms:modified xsi:type="dcterms:W3CDTF">2004-05-13T17:38:04Z</dcterms:modified>
  <cp:revision>71</cp:revision>
  <dc:subject/>
  <dc:title>Arbre de Huffman</dc:title>
</cp:coreProperties>
</file>