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7AE3-5194-4074-96A5-2B90FDFA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A04-B448-4EE2-B92B-3AA28DBB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CB0B-99F8-46CD-9722-C1DBE6A3E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61F-AE22-424A-B05B-06C1B32B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9E9B-4B5C-4BED-AF9E-C947E35E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9FC-B01A-48C5-BDD9-CE7D5A89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AC8D-425A-475E-9243-D8C93B63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017-22DE-490F-9456-1455B4C3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4C06-C946-4A52-839C-DD52AF59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F6A-435E-468A-8D28-A7707BB6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3FD-44D6-4CF1-AD5E-50CBB2B1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298-95B8-4C09-805A-A202D443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99BE-12B7-466A-93F7-C716C19F1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pport de com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ison des différentes méthodes de compression sur plusieurs fich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60948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819520" y="1676520"/>
          <a:ext cx="2514600" cy="55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676520"/>
                    <a:ext cx="2514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57800" y="16765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68580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501480"/>
          <a:ext cx="9144000" cy="585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1480"/>
                    <a:ext cx="9144000" cy="585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49520" y="617220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u : taille initiale. Rouge : taille fi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600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 760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103320"/>
          <a:ext cx="8077320" cy="675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3320"/>
                    <a:ext cx="807732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419720" y="13716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9 878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6880" y="598500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eurs 24 bits 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0"/>
          <a:ext cx="815364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15364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87120" y="624852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 couleurs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19051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 686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62120" y="0"/>
          <a:ext cx="777240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7724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3520" y="0"/>
          <a:ext cx="815328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15328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33920" y="1828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4 454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3040" y="61722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2kbps, 16bits, 22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0"/>
          <a:ext cx="7696080" cy="68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69608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6:17:19Z</dcterms:created>
  <dc:creator>Monchamps</dc:creator>
  <dc:description/>
  <dc:language>en-US</dc:language>
  <cp:lastModifiedBy>Monchamps</cp:lastModifiedBy>
  <dcterms:modified xsi:type="dcterms:W3CDTF">2004-05-16T20:01:31Z</dcterms:modified>
  <cp:revision>21</cp:revision>
  <dc:subject/>
  <dc:title>Rapport de compression</dc:title>
</cp:coreProperties>
</file>