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679-154F-4538-A6AB-E50148C9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E95-51C2-46FA-88AC-7106F4CC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1BB-7C7D-4E70-BD47-F9AA3BB1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A98-94BF-4EC5-923D-15E865E5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096-74EF-425A-A448-6D8E3C81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0D7-505F-4BF7-8A3F-45A4B272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80E-23AB-4F68-AF92-B2541B5A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066-E037-49C5-BC5E-EDCB0DB0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138-7900-4018-B596-698A1AE9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4F8-69EC-46C1-AB22-3BE1B2BB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C6E-9817-44D0-9643-4A71C98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9B2-26A5-4959-85D5-6D28D71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F67D-F7DD-4124-8E9B-1072788EE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 compression LZ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ression LZSS se fait de la même manière que LZ77 excepté le fait qu’on puisse tomber face à deux cas de figure pour le mot cod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un triplet (marqueur, position, longueur) quand on compresse la donn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juste un couple (marqueur, caractère non compressé) quand on ne compresse p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arqueur est à 1 lorsque la donnée qui suit est la paire (position, longueur), et 0 si on a simplement le caractère non compressé à la su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nons l’exemple précé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724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1,3,5)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5:30:46Z</dcterms:created>
  <dc:creator>Monchamps</dc:creator>
  <dc:description/>
  <dc:language>en-US</dc:language>
  <cp:lastModifiedBy>Monchamps</cp:lastModifiedBy>
  <dcterms:modified xsi:type="dcterms:W3CDTF">2004-05-16T15:40:52Z</dcterms:modified>
  <cp:revision>7</cp:revision>
  <dc:subject/>
  <dc:title>La compression LZSS</dc:title>
</cp:coreProperties>
</file>