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0986-716C-4F4A-96E0-4A4720E7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159B-9BD5-4A66-B0FC-D095F400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ED5C-AA85-4020-8A52-5E15391C4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CBD1-9C0B-4086-AF1A-BBF734AA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B612-1410-4755-9689-BB9D578D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8674-F818-4C48-B951-106341F0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2EC5-0F07-41A4-883C-7667FD5D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5EAE-77DA-4927-8A5F-E225444E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E219-FBB1-4552-BAD6-F80B177B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A77D-7FE8-4723-974A-198225C8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66B0-01F2-42BE-AEA6-DD59144D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0B92-2F6C-43E4-BE55-9722571D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FC6C-721D-4C14-9076-EFC0B2EDC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ression LZ77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e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mpression LZ77 : exe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Nous allons maintenant étudier la compression LZ77 au travers d’un exemple en compressant la phras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how-much-wood-would-a-wookchu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n parcourt le fichier tout en le compress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6858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how-much-wood-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1981080"/>
            <a:ext cx="11430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3640" y="2895480"/>
            <a:ext cx="30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nêtre (dictionna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2895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3809880"/>
            <a:ext cx="38098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ow-much-wood-w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3809880"/>
            <a:ext cx="1143000" cy="52056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Times New Roman"/>
              </a:rPr>
              <a:t>ld-a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5029200"/>
            <a:ext cx="13716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-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5029200"/>
            <a:ext cx="35812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uch-wood-wo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1447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1752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858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1905120"/>
            <a:ext cx="259092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u=0,0,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ripl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36576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l=0,0,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4419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4495680"/>
            <a:ext cx="13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5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5029200"/>
            <a:ext cx="106668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5029200"/>
            <a:ext cx="1143000" cy="68580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02920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60958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5105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-wood=12,5,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350532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47242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472428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160020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mpress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mment le programme compresse-t-il le fichier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Quand le programme parcourt le fichier, compare les occurrences du buffer avec celles du dictionnaire. Si il trouve des occurrences semblables de plus de 3 caractères, le  dictionnaire est avancé du nombre de caractères à compresser +1 et l ’occurrence est codée sous la forme d ’un triplet (pos,size,caractère non codé suiva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t voici la dernière étape : la boucle est bouclé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4800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nier caractère codé : h=0,0,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286000"/>
            <a:ext cx="4191120" cy="6858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od-would-a-woodchu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2286000"/>
            <a:ext cx="152388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huck 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5320" y="3124080"/>
            <a:ext cx="778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Ø correspond à un vide : en effet il n ’y a pl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que 4 caractères dans la phrase et le buffer 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mpt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09:01:59Z</dcterms:created>
  <dc:creator>eleve</dc:creator>
  <dc:description/>
  <dc:language>en-US</dc:language>
  <cp:lastModifiedBy>eleve</cp:lastModifiedBy>
  <dcterms:modified xsi:type="dcterms:W3CDTF">2004-05-13T20:02:10Z</dcterms:modified>
  <cp:revision>31</cp:revision>
  <dc:subject/>
  <dc:title>Compression LZH :</dc:title>
</cp:coreProperties>
</file>