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71D05-154E-4E73-B1C9-83B4CB6CE511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avant ar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8C1-E387-4BC3-9110-2788A14B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6410-1A32-4A5D-9C82-C21FE4D8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E67-64EB-4034-9D72-B9F429EE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16AC-88A2-4FD0-84E6-1F0BB5A8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D2FE-C764-4BA6-9828-07D93CF3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C477-75A3-4925-94D5-ABF2E10B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A2AC-812B-4F92-83C6-D7E32B39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C773-61A4-490D-AA4B-569714DA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D5C1-57A2-4852-80D4-45CC3C55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BC33A-0B97-4A8E-BAC4-F29F237F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CF1C-AFBC-4832-8B8D-0728A905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E71-23D6-47BE-BBB2-C0B4771D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5C98-B183-42D6-87BA-A51AC7F8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3D6A-D809-4784-973B-876BC728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32F3-56AC-419A-B450-0658F0F4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6E13-A6A7-4036-981F-2EE0C446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16D7-0D31-410C-99AF-9D5032C3B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C5A-1792-43FA-9572-6B6C087D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7AC-D414-4BA1-BB30-4EAF0F00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3F17-5E51-46B0-B493-9DB891D2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770-3647-4BCC-AB17-9ABCE02B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895-F612-4917-841F-42483ADD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C40-96C8-4990-99AA-CFAEFCAD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1C1-F4B5-4DB2-9F49-FE6138E8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304A-8933-4534-B863-39FF7A254A5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0EE7-2819-460A-8E83-C0852CCB70E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rbre de Huffm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à quoi sert-il 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905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ous allons maintenant expliquer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19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qu’est-ce qu’un arbre de huffman 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572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comment le créé-t-on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r simplifier les choses nous n’utiliserons pas les accents , les majuscules et les points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7620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ns un premier temps , nous trouverons la fréquence d’apparition de chaque lettre dans la phrase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uis nous créerons l’arbre de huffman étape par étape en détaillant celles-ci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nfin , nous calculerons la taille du fichier compressé en la détaillant : tant d’octets pour la table , tant pour l’arbre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Nous allons créer un arbre du huffman spécifique à la phrase suivante :</a:t>
            </a:r>
            <a:br>
              <a:rPr sz="2800"/>
            </a:b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 «  le president est entre dans la salle  »</a:t>
            </a:r>
            <a:br>
              <a:rPr sz="2800"/>
            </a:b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5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4100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295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981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410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7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6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219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2133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048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On peut déjà déterminer le nombre de fois où chaque lettre apparaît dans la phrase :</a:t>
            </a:r>
            <a:br>
              <a:rPr sz="2400"/>
            </a:b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le president est entre dans la salle</a:t>
            </a:r>
            <a:br>
              <a:rPr sz="24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connaît maintenant la fréquence d’apparition de chacune des lettres de cette phrase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2193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sait également que le nombre total de caractères de cette phrase est de 36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438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’arbre que nous allons maintenant réaliser est un arbre binaire, c’est à dire que les lettres vont avoir un nombre binaire qui leur correspondra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7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ar convention , lors d’une ramification de l’arbre , là où il se sépare en deux , le chemin de gauche est noté avec un 0 et celui de droite avec un 1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bd189"/>
                </a:solidFill>
                <a:latin typeface="Arial"/>
              </a:rPr>
              <a:t>Nous allons maintenant créer l’arbr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ici l’arbre cré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2767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200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276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038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5029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502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9480" y="45720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19520" y="4495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95880" y="350532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5812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7432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1337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2743200"/>
            <a:ext cx="121896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1676160"/>
            <a:ext cx="91440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1523880"/>
            <a:ext cx="220968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419720"/>
            <a:ext cx="22860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429000"/>
            <a:ext cx="3808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666880"/>
            <a:ext cx="4572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010280" y="2666880"/>
            <a:ext cx="22860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350532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343400"/>
            <a:ext cx="38088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18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1219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6858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6094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s lettres ont chacune un nombre binaire qui leur correspon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5670720"/>
            <a:ext cx="38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us la fréquence d’apparition d’une lettre est élevée, plus son nombre binaire sera pet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b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a phrase est maintenant compressé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Voici la table binaire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e: 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a : 0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: 0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  : 1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 : 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d : 010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s: 1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p : 101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n: 0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i  : 101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t : 01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ais qu’en est-il de la taille du fichier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il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La phrase compressée occup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(7*2 + 6*3 + 4*3 + 4*3 + 3*4 + 3*4 + 3*4 + 2*4 + 2*4 + 1*5 + 1*5) = 11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 lieu de (36 * 8) = 28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our un gain de compression de ((288 – 118) / 288) = 59%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NB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:Ce taux de compression diminue faiblement à cause de la table des codes de Huffman, indispensable pour la décompre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7:39:57Z</dcterms:created>
  <dc:creator>Monchamps</dc:creator>
  <dc:description/>
  <dc:language>en-US</dc:language>
  <cp:lastModifiedBy>Monchamps</cp:lastModifiedBy>
  <dcterms:modified xsi:type="dcterms:W3CDTF">2004-05-13T17:38:04Z</dcterms:modified>
  <cp:revision>71</cp:revision>
  <dc:subject/>
  <dc:title>Arbre de Huffman</dc:title>
</cp:coreProperties>
</file>