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73A-ECA1-4141-98C6-48A781C6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7CFD-0ECA-421E-BC5C-CA5FCC75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735-9B37-4C0F-B14B-4341428E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4C9-C728-4455-9DCD-8CC9E32D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5292-C31B-4663-A654-DEAD13A5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4ED2-D700-4756-9C6D-A7AAAC68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9067-100B-456E-831C-C2333FCD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9A31-27AC-432E-84B3-33D67318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28CD-C414-4A18-95DD-850A795E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E6BD-101D-436F-841F-BA5D2F55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854-F2CD-49CF-91A1-E474DD29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527-A789-471F-87DD-1CF6C20A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686B-5FD3-4237-866B-9B868370E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a compression LZ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compression LZSS se fait de la même manière que LZ77 excepté le fait qu’on puisse tomber face à deux cas de figure pour le mot codé 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 un triplet (marqueur, position, longueur) quand on compresse la donné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 juste un couple (marqueur, caractère non compressé) quand on ne compresse p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marqueur est à 1 lorsque la donnée qui suit est la paire (position, longueur), et 0 si on a simplement le caractère non compressé à la su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nons l’exemple précéd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how-much-wood-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1981080"/>
            <a:ext cx="11430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809880"/>
            <a:ext cx="38098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w-much-wood-w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3809880"/>
            <a:ext cx="1143000" cy="52056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ld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029200"/>
            <a:ext cx="35812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uch-wood-wo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5029200"/>
            <a:ext cx="13716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-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5029200"/>
            <a:ext cx="1143000" cy="6858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029200"/>
            <a:ext cx="106668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0292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676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0,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3429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0,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47242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1,3,5) 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5:30:46Z</dcterms:created>
  <dc:creator>Monchamps</dc:creator>
  <dc:description/>
  <dc:language>en-US</dc:language>
  <cp:lastModifiedBy>Monchamps</cp:lastModifiedBy>
  <dcterms:modified xsi:type="dcterms:W3CDTF">2004-05-16T15:40:52Z</dcterms:modified>
  <cp:revision>7</cp:revision>
  <dc:subject/>
  <dc:title>La compression LZSS</dc:title>
</cp:coreProperties>
</file>