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5603A-F638-484B-B2F4-CD991AC0FE02}" type="slidenum">
              <a:rPr b="0" lang="fr-FR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 avant arb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82DC-0434-4156-BBC7-7FE7216F0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5564-CEE1-4096-B615-75F04BF18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D970-53EB-4282-B722-6B22B3B16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10BB-FE85-4CEB-BE05-973000E22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C8EFA-A54C-44F9-B56D-EFE0951C5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9B11C-2CE7-4535-B132-F3A343880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2123D-FF85-4561-9FF6-2352F47EB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6B1A5-F6AD-431A-9820-67F840252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E54F0-2570-4255-9D1A-6306713CB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3A3C7-CEB7-4FCF-96BA-A7CA0BF5D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F56C9-414D-41F1-91C9-7E6E80C7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AF53-D25C-49B3-B01F-7F39F3FD3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2D732-A942-402E-B82E-F0397D78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A6A2F-2E60-46E7-B6E6-61A02578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3B5BD-7C53-4695-9017-4AC6DDF22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0AD4F-C126-4390-B13C-E6E134F82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94567-B0CD-4DB5-BECD-3EC0C27F5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6395-6D8E-45D2-BCB2-33689BAE8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EAE0-53D2-40B6-9B32-1BAD3F271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4EA5-8885-4B7B-AA14-D1FFDE8DA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EB57-AC23-4011-9782-290E7319B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94C9-9D34-4371-BE1B-18F63322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1BED-9ECA-4270-A6AA-66DB29E4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BA40-7ED0-44A5-BEC7-E6A3B839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88372-7751-499F-9D03-8F09BA71C66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62153-83B4-4D41-81A9-184A07AAA10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rbre de Huffma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676520" y="37339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18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d189"/>
                </a:solidFill>
                <a:latin typeface="Times New Roman"/>
              </a:rPr>
              <a:t>à quoi sert-il 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76520" y="19051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Nous allons maintenant expliquer 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281952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18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d189"/>
                </a:solidFill>
                <a:latin typeface="Times New Roman"/>
              </a:rPr>
              <a:t>qu’est-ce qu’un arbre de huffman 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76520" y="457200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18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d189"/>
                </a:solidFill>
                <a:latin typeface="Times New Roman"/>
              </a:rPr>
              <a:t>comment le créé-t-on 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447920" y="289548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our simplifier les choses nous n’utiliserons pas les accents , les majuscules et les points 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3886200"/>
            <a:ext cx="76201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Dans un premier temps , nous trouverons la fréquence d’apparition de chaque lettre dans la phrase ,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uis nous créerons l’arbre de huffman étape par étape en détaillant celles-ci ,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enfin , nous calculerons la taille du fichier compressé en la détaillant : tant d’octets pour la table , tant pour l’arbre , etc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bd189"/>
                </a:solidFill>
                <a:latin typeface="Arial Narrow"/>
              </a:rPr>
              <a:t>Nous allons créer un arbre du huffman spécifique à la phrase suivante :</a:t>
            </a:r>
            <a:br>
              <a:rPr sz="2800"/>
            </a:br>
            <a:r>
              <a:rPr b="0" lang="fr-FR" sz="2800" spc="-1" strike="noStrike">
                <a:solidFill>
                  <a:srgbClr val="ebd189"/>
                </a:solidFill>
                <a:latin typeface="Arial Narrow"/>
              </a:rPr>
              <a:t> «  le president est entre dans la salle  »</a:t>
            </a:r>
            <a:br>
              <a:rPr sz="2800"/>
            </a:b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66680" y="15228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76920" y="37339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95280" y="541008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76920" y="289548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95280" y="20574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95280" y="289548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95280" y="12193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95280" y="37339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76920" y="11430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45720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76920" y="20574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876920" y="45720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129528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95280" y="12193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19320" y="19810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_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76920" y="11430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76920" y="2057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76920" y="28954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76920" y="37339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5720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95280" y="5410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45720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95280" y="37339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2971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57400" y="13716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7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57400" y="22096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6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57400" y="29718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4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057400" y="3809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4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57400" y="46483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3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57400" y="55627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3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638680" y="12193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3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8680" y="21337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2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38680" y="30481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2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638680" y="3886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1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38680" y="47242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1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bd189"/>
                </a:solidFill>
                <a:latin typeface="Arial Narrow"/>
              </a:rPr>
              <a:t>On peut déjà déterminer le nombre de fois où chaque lettre apparaît dans la phrase :</a:t>
            </a:r>
            <a:br>
              <a:rPr sz="2400"/>
            </a:br>
            <a:r>
              <a:rPr b="0" lang="fr-FR" sz="2400" spc="-1" strike="noStrike">
                <a:solidFill>
                  <a:srgbClr val="ebd189"/>
                </a:solidFill>
                <a:latin typeface="Arial Narrow"/>
              </a:rPr>
              <a:t>le president est entre dans la salle</a:t>
            </a:r>
            <a:br>
              <a:rPr sz="2400"/>
            </a:b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14300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1522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On connaît maintenant la fréquence d’apparition de chacune des lettres de cette phrase 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121932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On sait également que le nombre total de caractères de cette phrase est de 36 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447920" y="243828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L’arbre que nous allons maintenant réaliser est un arbre binaire, c’est à dire que les lettres vont avoir un nombre binaire qui leur correspondra 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00200" y="42670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ar convention , lors d’une ramification de l’arbre , là où il se sépare en deux , le chemin de gauche est noté avec un 0 et celui de droite avec un 1 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5638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bd189"/>
                </a:solidFill>
                <a:latin typeface="Arial"/>
              </a:rPr>
              <a:t>Nous allons maintenant créer l’arbre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Voici l’arbre créé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848720" y="327672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362320" y="51055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320" y="51055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648320" y="403848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32004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403848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05120" y="61722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153280" y="32767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077320" y="3200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50292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_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362320" y="51055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05120" y="6172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562720" y="40384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48320" y="4114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458200" y="61722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352680" y="51055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61722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324480" y="50292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238880" y="61722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6172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24480" y="5029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52680" y="51055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458200" y="6172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8880" y="6172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371600" y="5638680"/>
            <a:ext cx="30492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609480" y="4572000"/>
            <a:ext cx="30492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7620120" y="5638680"/>
            <a:ext cx="30456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6858000" y="4495680"/>
            <a:ext cx="30492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2819520" y="4495680"/>
            <a:ext cx="30456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6095880" y="3505320"/>
            <a:ext cx="30492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5638680"/>
            <a:ext cx="30456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19720" y="3581280"/>
            <a:ext cx="30456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924680" y="2743200"/>
            <a:ext cx="30492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381880" y="5638680"/>
            <a:ext cx="30492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4495680"/>
            <a:ext cx="30492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71600" y="48769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38080" y="37339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666880" y="21337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343400" y="11430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315200" y="20574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934320" y="37339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848720" y="48769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895480" y="37339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09880" y="28195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24480" y="28195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1447920" y="2743200"/>
            <a:ext cx="1218960" cy="9907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3352680" y="1676160"/>
            <a:ext cx="914400" cy="5331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05520" y="1523880"/>
            <a:ext cx="2209680" cy="6098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371600" y="4419720"/>
            <a:ext cx="228600" cy="380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505320" y="3429000"/>
            <a:ext cx="380880" cy="380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52680" y="2666880"/>
            <a:ext cx="45720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7010280" y="2666880"/>
            <a:ext cx="228600" cy="1526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0" y="3505320"/>
            <a:ext cx="15228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543800" y="4343400"/>
            <a:ext cx="380880" cy="533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352680" y="1523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867280" y="342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35268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590920" y="4419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066680" y="5638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23880" y="2666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391520" y="5562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629400" y="4419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867280" y="1371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429000" y="4419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981080" y="5562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371600" y="4343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495680" y="3505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29000" y="2362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381880" y="5562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20120" y="43434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781680" y="3276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924680" y="2666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267080" y="12193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3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2120" y="3809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1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2209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2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733920" y="2895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772400" y="4952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0" y="3809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248520" y="2895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8880" y="2133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1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295280" y="4952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819520" y="3809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0880" y="68580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38080" y="609480"/>
            <a:ext cx="190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Les lettres ont chacune un nombre binaire qui leur correspond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124080" y="5670720"/>
            <a:ext cx="383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lus la fréquence d’apparition d’une lettre est élevée, plus son nombre binaire sera petit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able du fichier compressé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La phrase est maintenant compressé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Voici la table binaire 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          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e: 11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 a : 001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- : 000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r  : 101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          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l : 011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  d : 010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s: 100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 p : 1011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n: 0011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 i  : 1011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t : 010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Mais qu’en est-il de la taille du fichier 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aille du fichier compressé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La phrase compressée occupe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(7*2 + 6*3 + 4*3 + 4*3 + 3*4 + 3*4 + 3*4 + 2*4 + 2*4 + 1*5 + 1*5) = 118 bits,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au lieu de (36 * 8) = 288 bits,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pour un gain de compression de ((288 – 118) / 288) = 59%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NB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 :Ce taux de compression diminue faiblement à cause de la table des codes de Huffman, indispensable pour la décompress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2T17:39:57Z</dcterms:created>
  <dc:creator>Monchamps</dc:creator>
  <dc:description/>
  <dc:language>en-US</dc:language>
  <cp:lastModifiedBy>Monchamps</cp:lastModifiedBy>
  <dcterms:modified xsi:type="dcterms:W3CDTF">2004-05-13T17:38:04Z</dcterms:modified>
  <cp:revision>71</cp:revision>
  <dc:subject/>
  <dc:title>Arbre de Huffman</dc:title>
</cp:coreProperties>
</file>